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E0C-0AA1-4F62-89CE-6E252CFFA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11B-D914-4738-BF22-0D11604F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9F7C-91FC-4CDE-B167-207D1A09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220C-1C03-4D8D-8EC8-84BEB68A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4DEE-7BD0-4B9D-AFF1-A223F03B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5DC61-94D2-49FE-A9B8-EB28EF66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DCF1-B21C-4FE9-9522-F5456A59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AC73-E6BB-4A44-A067-5E164D92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3A5C-9BC6-46BA-A750-0F87ED5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5D5C-56BE-478C-9C2C-8279EEB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019D-694A-46FB-9A13-536616AA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701-5E20-4D15-9DD1-39B52C75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4084A-D23C-49FE-B814-91AFA95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B94C-72F8-4F03-9660-8EF97C68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C770-81A5-439D-84C1-6D535D7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CCF6-5990-421E-B573-52AA39B4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240C-348F-4E7E-8666-A5F8BC9D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69D9A-2873-41C8-BA9F-957E8FE52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1D33A-255E-4526-B2B2-276C9A21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E2924-FD54-4FB8-96C6-26A44857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10F78-E3BD-493B-80D5-72F8027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F515C-B6A5-43FD-BC61-42132E74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BE1B-B965-4C32-88CF-80C22460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BCED4-92B7-41CA-BD17-C3BB4B20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012A-2B40-4CE0-A6AD-5210D3F5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8D9BF-6BD5-4420-A7AC-1646E498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12A65-00D6-44D0-A00E-136C54A7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78DC-2A36-482E-AEB7-99C95949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0BB2-7221-4F00-B148-C675E3B0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20DFC-4387-4EDF-9816-DFACD24D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1C5A1-135B-43CF-877C-1F91D69C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93F3B-856C-4EC9-89D8-B34D76FE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B725B-C952-4653-8E5A-2B0A78A0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FDAD-B5F1-428E-954C-3E583B43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86DB1-EB9D-40AD-84C8-0488C691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B1A6E-F420-4EAD-98B9-85403FD3F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C965-770B-49B8-A9E0-81CCB035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C375-7029-432F-A326-8EB751B3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A21E4-8652-4B3E-896B-1A3E4576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13F0-6E97-4BB5-8C11-602C9522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9E7BA-CD3B-4075-8C2B-E2479B1A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63C80-2790-46B7-8C96-682DE9CC7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0AD3-BC57-422C-9B30-A7CD574A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039A0-FA71-4435-8678-FE4019BC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BE22-746A-44D2-8533-E389CA64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0B706-B33B-42A6-9418-9E43FA07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E2DB-765C-423B-9DC6-D35DAB0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585B0-91D3-4630-BEE5-91AB7D9B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54519-0FAD-40CC-B404-B1B2C4DC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8D67F-2E9F-484D-96B6-2ECA85C9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278FA-4815-4CFE-AEBE-189AA74D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E3AA2-533E-42B2-8582-7AE5236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851B-36D6-482C-B138-7DD5D9A1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C93CD-BEBA-498F-BE46-B09B9CAF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E443-114E-49B4-8596-87DDCBFC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87C-30C2-482C-9543-8A88D728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C1EC1-0FBD-4071-A9F1-48C850FB7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55D9-7BBB-404D-B06B-860E3B1F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B00C5-35DE-417F-93CA-15CA3E67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B483-A05C-45DA-B085-FEB0354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E49BB-5B70-482C-A9F2-F8D2108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84110-3BC8-4006-96AC-0DBCC481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E3562-47CD-4C44-BD01-4AD60035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337B5-8604-42D0-80E4-E5AC040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DFF3-3072-4B52-90F9-AF240D2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9982-BB57-4FF9-8500-3BA7ABA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F3C-5F33-437B-AF0E-559CFB0F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1E994-381F-42AC-83C5-EEBA49D5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B3772-118E-4D11-AAD0-C68590C00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822C9-1CE4-489C-BBC7-0DEC08C2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F3A7E-1BDC-438F-8180-65F05418C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25B10-CDE1-4BA5-A6D8-5E157517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F494-5832-4B93-914A-12A450E3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32227-ABDD-4FA8-940C-3632BD91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81F19-FCE1-4DEA-80BE-C2B6008A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F83DF-4C96-4798-B890-FB59C54F5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A41F2-8974-4340-8C15-BC5E6EB6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15E-E2B8-4A4B-92F8-A4ED7759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F0048-CC9D-495C-9678-2B8E64A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DAA11-E490-47C1-BBC0-3DC5F1A6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A7504-C470-438D-9912-4AC6B016E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49B7B-6289-47CB-AEE2-2C00DE76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081F5-164E-4A19-8522-5E15FDC4C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F408A-8713-4816-B21E-E7AE5F02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67FE1-5E69-4E24-BC62-8716D04B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3F92D-5C96-40AF-9334-B16B41DA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67F9-9B3F-4C1E-9F42-7C15E9F73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9E56E-2FC6-46EE-83BE-47FCA0ED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2B4-3D3D-4B5B-9FC7-6141D445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FA7D-FFC9-4B7C-AEBF-67A6A295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E6D0C-19FF-4376-87F0-F49EC214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3E5C2-8E70-4621-A9EF-BF0A2E86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312E-5139-4E6C-84F4-8156651F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464E6-EC99-4D11-B70F-E17F9433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BF605-E360-4780-BA34-0E3504AA9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776AA-BC90-4989-B18F-9A5BF4D4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EF3A-E3A7-4D68-992A-30DF6C121C07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44a4"/>
              </a:gs>
              <a:gs pos="50000">
                <a:srgbClr val="3e81e9"/>
              </a:gs>
              <a:gs pos="100000">
                <a:srgbClr val="0044a4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cb2e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8B42-AB7C-469A-A6B1-96BB7CD23117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F322-356D-47EE-96B4-A8ACAA04602C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C831-D066-46B1-8F68-2C5BFB5A4127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1155-D1C6-4A91-8B50-39D07385A1FC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6B35-21AD-4702-8375-0FC5222AB8DF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4617b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04617b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A33B-BA81-4716-AEE1-4D75794D88C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cb2e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58b0"/>
              </a:gs>
              <a:gs pos="100000">
                <a:srgbClr val="799de4"/>
              </a:gs>
            </a:gsLst>
            <a:lin ang="16200000"/>
          </a:gradFill>
          <a:ln cap="rnd" w="3240">
            <a:solidFill>
              <a:srgbClr val="085091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bf5f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bf5f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A5A7-35D7-4A0E-9959-E83263D8469B}" type="slidenum"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4617b"/>
                </a:solidFill>
                <a:latin typeface="Lucida Sans Unicode"/>
              </a:rPr>
              <a:t>Meeanee Schoo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4617b"/>
                </a:solidFill>
                <a:latin typeface="Lucida Sans Unicode"/>
              </a:rPr>
              <a:t>Kelly McK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841400"/>
            <a:ext cx="8229600" cy="45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5400" indent="14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Lucida Sans Unicode"/>
              </a:rPr>
              <a:t>The main aim at Meeanee School is to record our learning journeys by using ePortfolios. Each teacher is to develop their own ePortfolio, using Powerpoint. Powerpoint is seen as a consistent tool that everyone is familiar with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95400" indent="1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95400" indent="14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Lucida Sans Unicode"/>
              </a:rPr>
              <a:t>ICT goals were developed as a need for student engage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ICT is our current schoolwide focus so therefore our goals are reflected in our ePortfolios.  Teachers can extend their ePortfolios beyond ICT though as they see f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Teachers have set 1 or 2 ICT goals as part of appraisal at Meeanee, which is linked to inquiry learn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As a staff we are meeting fortnightly. 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We have ICT buddies to keep each other on track – discussions and feedback and feedforward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000000"/>
                </a:solidFill>
                <a:latin typeface="Lucida Sans Unicode"/>
              </a:rPr>
              <a:t>Emphasis on interactive tools and ICT tools that are already in the school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Increase confidence in use of IT tools to enhance lear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Extend knowledge of IT resources to enhance student eng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Improve understanding of IT infrastructure to support staff and strategic plann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Develop an ePortfolio which reflects goals, professional development and my reflections on impact on learning for students and myself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support ICT Lead teacher in achieving schoolwide initia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share developing skills, knowledge and classroom practices with all staff (intranet, ICT Buddy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0680"/>
            <a:ext cx="822960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o be an effective lead teacher of I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haring knowledge with other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Show my learning journey through my learning ePortfoli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Content Placeholder 1"/>
          <p:cNvSpPr/>
          <p:nvPr/>
        </p:nvSpPr>
        <p:spPr>
          <a:xfrm>
            <a:off x="468360" y="3284640"/>
            <a:ext cx="822960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Lucida Sans Unicode"/>
              </a:rPr>
              <a:t>To engage student learning by using IC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2240" indent="-255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300" spc="-1" strike="noStrike">
                <a:solidFill>
                  <a:srgbClr val="000000"/>
                </a:solidFill>
                <a:latin typeface="Lucida Sans Unicode"/>
              </a:rPr>
              <a:t>To increase the use of ICT tools and develop confid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22240" indent="-255600">
              <a:lnSpc>
                <a:spcPct val="100000"/>
              </a:lnSpc>
              <a:spcBef>
                <a:spcPts val="326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ontent Placeholder 3" descr=""/>
          <p:cNvPicPr/>
          <p:nvPr/>
        </p:nvPicPr>
        <p:blipFill>
          <a:blip r:embed="rId1"/>
          <a:stretch/>
        </p:blipFill>
        <p:spPr>
          <a:xfrm>
            <a:off x="2901960" y="1255680"/>
            <a:ext cx="6570720" cy="4767120"/>
          </a:xfrm>
          <a:prstGeom prst="rect">
            <a:avLst/>
          </a:prstGeom>
          <a:ln w="0">
            <a:noFill/>
          </a:ln>
        </p:spPr>
      </p:pic>
      <p:pic>
        <p:nvPicPr>
          <p:cNvPr id="38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4"/>
          <p:cNvSpPr/>
          <p:nvPr/>
        </p:nvSpPr>
        <p:spPr>
          <a:xfrm>
            <a:off x="250920" y="2637000"/>
            <a:ext cx="345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NZ" sz="1800" spc="-1" strike="noStrike">
                <a:solidFill>
                  <a:srgbClr val="000000"/>
                </a:solidFill>
                <a:latin typeface="Lucida Sans Unicode"/>
              </a:rPr>
              <a:t>The value to my own practice is developing confidence, building up a resource bank and reflecting on the outcomes from modelling and setting tasks.”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3906720" y="268200"/>
            <a:ext cx="6218280" cy="6577200"/>
          </a:xfrm>
          <a:prstGeom prst="rect">
            <a:avLst/>
          </a:prstGeom>
          <a:ln w="0">
            <a:noFill/>
          </a:ln>
        </p:spPr>
      </p:pic>
      <p:pic>
        <p:nvPicPr>
          <p:cNvPr id="387" name="Title 2" descr=""/>
          <p:cNvPicPr/>
          <p:nvPr/>
        </p:nvPicPr>
        <p:blipFill>
          <a:blip r:embed="rId2"/>
          <a:stretch/>
        </p:blipFill>
        <p:spPr>
          <a:xfrm>
            <a:off x="-225360" y="122400"/>
            <a:ext cx="8497800" cy="11523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1"/>
          <p:cNvSpPr/>
          <p:nvPr/>
        </p:nvSpPr>
        <p:spPr>
          <a:xfrm>
            <a:off x="179280" y="1054440"/>
            <a:ext cx="46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The skills in our digital citizenship model relates to staff and will be reflected in ePortfolio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0:13:19Z</dcterms:created>
  <dc:creator>Casey</dc:creator>
  <dc:description/>
  <dc:language>en-US</dc:language>
  <cp:lastModifiedBy>Ministry of Education</cp:lastModifiedBy>
  <dcterms:modified xsi:type="dcterms:W3CDTF">2011-05-11T01:57:50Z</dcterms:modified>
  <cp:revision>7</cp:revision>
  <dc:subject/>
  <dc:title>ePortfolios</dc:title>
</cp:coreProperties>
</file>